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CB66-83A5-45CB-BDFC-1C1E5C1638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C9E-DBDE-470F-BE98-54884BACA9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n example of a teacher who made made Demand to Understand a classroom mantra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E033-86A5-48CF-9FAF-5EFD09A952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e are going to watch a video of a math clas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t is necessarily a context that relates immediately to those that you teach in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at doesn’t matter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goals are to-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roduce to this cool website of math classrooms. Its free to register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arm up our analytical sid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otentially create some shared reference points for different kinds of activiti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e are going to watch for about 7.5 minut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ke notes on these three questions.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053-7540-439D-A661-BC7F99970B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lly all of these activities should in some sense by shaped and guided by the Core Practice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87D3-7C07-4318-BCAA-0EF6ABEF44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. The best part of teaching- facilitating new growth and identity chang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. What are the paths in student thinking that lead to “aha!”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are the contexts and supports needed for th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3. Systematic and rigorous suggest iterative—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A45-6B42-4BD5-80A6-744216DDF8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ploring the parallels between processes of student learning and faculty learn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ot against direct instruction- presentation have a place, but presenting isn’t teach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re is a coherent framework about how learning takes place that is guiding the grant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t is described in “How People Learn Math”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ol use means practicing using the tools in ways that are extensions of what you know how to do with them.-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deeper understanding of math happens from using mathematics to interpreting, conjecture, investigating, testing, refining verify, modeling represent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andling tools in as many meaningful ways as possible allows learners to grow in their abilities and understanding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same holds true for growth in teaching.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206-482A-42CE-AE5D-8B37EC753CA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e are handing out the resource sheets now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C0BE-87C0-4517-832E-7FEF975E35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677-2946-4431-8BDB-7221AFFC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EEA-9160-47FD-96CD-126FDC87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3ED-B94F-4A33-8831-1DC12322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81A-5FB6-43ED-80E9-2CA62809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F47-DA00-4857-AD59-1C6140CF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CB7-6081-46FC-8FE6-594D1D95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1F9-8842-423D-A359-A010F00C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B22-DE3C-4986-AE9A-00055C3C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831-DF26-4BA4-B696-CF5F1263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2FE-332C-4973-AEB8-3F7F9ABC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9B0-53D9-4743-BD31-91CC94B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903-EE06-47AF-BAD5-DFCB4F1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3DC-FB54-4FF5-B2CE-18F3575755B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PM March 2011 Retre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quiry Into Learning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(and maybe teaching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ckey Davis UCB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llaborative Task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features of a task that make it well suited to group-collaboration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en should students work in pairs v. groups of three or four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ideal ways of engaging with collaborative tasks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barriers to students engaging in these activities in this way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spects of task implementation, questioning strategies, and other pedagogy can help overcome these obstacles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uilding and Supporting FIG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formal invitations to “thinking partnerships”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aring a teaching dilemm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howing a piece of student work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ciprocal observ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he Quest For Understanding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hifting Responsibilit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cusing on the sphere of influenc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derstandably resisted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n be overcome strategically and collectivel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stained, systemic, rigorous inquiry of local generated evidence will lead to deeper understanding of learning and teaching that can help transform teaching and learning practic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se activities are integral to teaching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Let’s Begi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stands out to you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are students learning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are they learning it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Grant Activiti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ing new cours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organizing courses and topic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djusting placement procedur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amining data trends and respond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ore pract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changing what happens in the classroom through CATS, FIGS, Reciprocal observa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IG Challeng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do we get people to come to the tabl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 we when we all get ther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is this supposed to relate to all the work we have to do as faculty? On the grant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ower Issues: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ow can I be leader when I’m not tenured yet? New to the department? An adjunct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raming FIG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ureka! I can do this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leads to those moment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G’s systematically and rigorously examine this question in a specific topic area using evidence of student thinking.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oward a Unified Theory of  Learning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questions/tasks are engaging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kind of engagement leads to learning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y doesn’t the grant leadership just say what to do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couple of group convers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actice being in an inquiry space with colleagu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need to develop comprehensive answer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G fu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rames of inquiry that could guide a FI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ck topi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dd evide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20 Minut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ssign rol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xplore the ques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eak succinctly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sten to and build on each oth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me yourself so you get to the bottom questio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Talking Math v. Mathematical Tal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en is talking useful in a math class?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en does talking promote learning?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features of a whole-class conversation that can make it mathematically useful for students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What are the roles of a professor in such a conversation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How can a professor scaffold group tasks so student talk is mathematically productive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How do student beliefs about competence affect participation in tasks   requiring mathematical communication?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23:59:48Z</dcterms:created>
  <dc:creator>Office 2004 Test Drive User</dc:creator>
  <dc:description/>
  <dc:language>en-US</dc:language>
  <cp:lastModifiedBy>Mickey</cp:lastModifiedBy>
  <dcterms:modified xsi:type="dcterms:W3CDTF">2011-03-03T07:53:58Z</dcterms:modified>
  <cp:revision>62</cp:revision>
  <dc:subject/>
  <dc:title>Action Research</dc:title>
</cp:coreProperties>
</file>